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1" descr="WH_sectionopener_27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Oval 14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30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32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30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6"/>
          <p:cNvSpPr/>
          <p:nvPr/>
        </p:nvSpPr>
        <p:spPr>
          <a:xfrm>
            <a:off x="1778040" y="912960"/>
            <a:ext cx="4473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 Age of Imperialism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850–191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9"/>
          <p:cNvSpPr/>
          <p:nvPr/>
        </p:nvSpPr>
        <p:spPr>
          <a:xfrm>
            <a:off x="1773360" y="1936800"/>
            <a:ext cx="662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stern countries colonize large areas of Africa and Asia, leading to political and cultural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50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773360" y="2174760"/>
            <a:ext cx="544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s of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develop four forms of control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ri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y—governed by a foreign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orate—governs itself, but under out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here of influence—outside power contr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ment, t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imperialism—private 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s assert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34" name="Text Box 7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Oval 10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782720" y="1690560"/>
            <a:ext cx="37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 New Period of Imperiali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73360" y="2174760"/>
            <a:ext cx="54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s of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use two methods to manage colon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rec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44" name="Text Box 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Oval 1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782720" y="1690560"/>
            <a:ext cx="37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 New Period of Imperiali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1773360" y="3371760"/>
            <a:ext cx="57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rec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mited self-rule for local 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gislative body includes colonial, local 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1782720" y="4314960"/>
            <a:ext cx="573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aterna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Europeans provide for local peop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t grant no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ssim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adaptation of local people to ru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4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1773360" y="159876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 British Colo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0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1773360" y="2174760"/>
            <a:ext cx="572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inin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conquers southern Nigeria using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plomacy and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quest of northern Nigeria through Royal Ni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914, Britain claims all of Nigeria as a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93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56" name="Text Box 94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5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6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Oval 98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0"/>
          <p:cNvSpPr/>
          <p:nvPr/>
        </p:nvSpPr>
        <p:spPr>
          <a:xfrm>
            <a:off x="1773360" y="3941640"/>
            <a:ext cx="578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he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geria is culturally diverse area, with about 2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hnic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use indirect rule successfully with Haus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l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ruba and Igbo chiefs resent limits on their 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775880" y="15987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frican Res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773360" y="217476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ns Confront Imper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oad resistance to imperialism, but Europea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ior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66" name="Text Box 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9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Oval 1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773360" y="3110040"/>
            <a:ext cx="644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successful 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ria actively resists French for almost 5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ori Touré fights French in West Africa for 16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German East Africa, people put faith in spiri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 in about 75,000 deaths; famine kills twice as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773360" y="4881600"/>
            <a:ext cx="573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hiopia: A Successful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Menelik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emperor of Ethiopia in 1889, resi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ys Europeans against each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ockpiles arsenal of modern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ats Italy, remains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772280" y="159876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Legacy of Colonial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73360" y="217476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ns lose land and independence, many l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ditional cultures brea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of Africa creates problems that contin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7" name="Text Box 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Oval 1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1773360" y="3938760"/>
            <a:ext cx="57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ialism reduces local f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itation improves; hospitals and school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 brings economic grow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49"/>
          <p:cNvGrpSpPr/>
          <p:nvPr/>
        </p:nvGrpSpPr>
        <p:grpSpPr>
          <a:xfrm>
            <a:off x="1370880" y="2486160"/>
            <a:ext cx="5008680" cy="1640520"/>
            <a:chOff x="1370880" y="2486160"/>
            <a:chExt cx="5008680" cy="1640520"/>
          </a:xfrm>
        </p:grpSpPr>
        <p:sp>
          <p:nvSpPr>
            <p:cNvPr id="183" name="Text Box 50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1370880" y="2867040"/>
              <a:ext cx="500868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Europeans Claim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Muslim Lands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52"/>
          <p:cNvSpPr/>
          <p:nvPr/>
        </p:nvSpPr>
        <p:spPr>
          <a:xfrm>
            <a:off x="1370160" y="4100400"/>
            <a:ext cx="69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nations expand their empires by seizing territories from Muslim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5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3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75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8"/>
          <p:cNvSpPr/>
          <p:nvPr/>
        </p:nvSpPr>
        <p:spPr>
          <a:xfrm>
            <a:off x="1772640" y="182736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ttoman Empire Loses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0"/>
          <p:cNvSpPr/>
          <p:nvPr/>
        </p:nvSpPr>
        <p:spPr>
          <a:xfrm>
            <a:off x="1773360" y="2403360"/>
            <a:ext cx="578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s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Suleyman I dies in 1566, empire star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toman Empire falls behind Europe i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im III attempts to modernize army an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th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ject peoples in Greece and Serbia g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powers look for ways to take Otto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1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7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193" name="Text Box 8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89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0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Oval 93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8"/>
          <p:cNvSpPr/>
          <p:nvPr/>
        </p:nvSpPr>
        <p:spPr>
          <a:xfrm>
            <a:off x="2270880" y="885960"/>
            <a:ext cx="604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Europeans Claim Muslim 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773720" y="159876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uropeans Grab Terri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773360" y="2174760"/>
            <a:ext cx="544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pol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Geopoli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taking land for its strategic l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to sea trade routes focuses attentio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toman 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7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04" name="Text Box 1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9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24"/>
          <p:cNvSpPr/>
          <p:nvPr/>
        </p:nvSpPr>
        <p:spPr>
          <a:xfrm>
            <a:off x="1773360" y="3646440"/>
            <a:ext cx="587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ssia and the Crimea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rimean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Russia attacks Ottomans in 1853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in warm-water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ssia loses, but Ottomans are shown to be wea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ll los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1773360" y="5114880"/>
            <a:ext cx="573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eat Game—war waged between Russia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over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s fought in Afghanistan until British withdraw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773000" y="159876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gypt Initiates Ref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773360" y="217476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litary and Economic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hammad Ali breaks away from Otto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and rules 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gins series of reforms in military and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ifts Egyptian agriculture from food crop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sh cr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8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15" name="Text Box 9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0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2"/>
          <p:cNvSpPr/>
          <p:nvPr/>
        </p:nvSpPr>
        <p:spPr>
          <a:xfrm>
            <a:off x="1773360" y="3946680"/>
            <a:ext cx="587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ez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ypt build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ez Ca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human-made water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s Red Sea to Mediterran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ization efforts create huge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oversee financial control of canal, occu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 in 18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775520" y="159876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ersia Pressured to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773360" y="2174760"/>
            <a:ext cx="544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ploitation of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ssia wants access to Persian Gulf and Ind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wants Persian oil and Afghan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ia concedes to Wester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25" name="Text Box 9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12"/>
          <p:cNvSpPr/>
          <p:nvPr/>
        </p:nvSpPr>
        <p:spPr>
          <a:xfrm>
            <a:off x="1773360" y="3646440"/>
            <a:ext cx="587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ttle over Toba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ian ruler sells concession to Britain to ex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ba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ians boycott tobacco, leads to ri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07, Russia and Britain seize and divide Per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68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1"/>
          <p:cNvSpPr/>
          <p:nvPr/>
        </p:nvSpPr>
        <p:spPr>
          <a:xfrm>
            <a:off x="1778040" y="912960"/>
            <a:ext cx="4473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 Age of Imperialism,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850–191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90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3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74">
            <a:hlinkClick r:id="rId2" action="ppaction://hlinksldjump"/>
          </p:cNvPr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75">
            <a:hlinkClick r:id="rId3" action="ppaction://hlinksldjump"/>
          </p:cNvPr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6">
            <a:hlinkClick r:id="rId4" action="ppaction://hlinksldjump"/>
          </p:cNvPr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7"/>
          <p:cNvSpPr/>
          <p:nvPr/>
        </p:nvSpPr>
        <p:spPr>
          <a:xfrm>
            <a:off x="3845880" y="25020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ramble for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8"/>
          <p:cNvSpPr/>
          <p:nvPr/>
        </p:nvSpPr>
        <p:spPr>
          <a:xfrm>
            <a:off x="3848040" y="307800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6e19"/>
                </a:solidFill>
                <a:latin typeface="Arial"/>
                <a:ea typeface="Times New Roman"/>
              </a:rPr>
              <a:t>CASE STUD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9"/>
          <p:cNvSpPr/>
          <p:nvPr/>
        </p:nvSpPr>
        <p:spPr>
          <a:xfrm>
            <a:off x="3845160" y="359100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s Claim Muslim 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0"/>
          <p:cNvSpPr/>
          <p:nvPr/>
        </p:nvSpPr>
        <p:spPr>
          <a:xfrm>
            <a:off x="3847320" y="412920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Imperialism in In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1">
            <a:hlinkClick r:id="rId5" action="ppaction://hlinksldjump"/>
          </p:cNvPr>
          <p:cNvSpPr/>
          <p:nvPr/>
        </p:nvSpPr>
        <p:spPr>
          <a:xfrm>
            <a:off x="2046240" y="46735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2"/>
          <p:cNvSpPr/>
          <p:nvPr/>
        </p:nvSpPr>
        <p:spPr>
          <a:xfrm>
            <a:off x="3846600" y="4662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ism in Southeast A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6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4"/>
          <p:cNvGrpSpPr/>
          <p:nvPr/>
        </p:nvGrpSpPr>
        <p:grpSpPr>
          <a:xfrm>
            <a:off x="1370880" y="2486160"/>
            <a:ext cx="5325840" cy="1640520"/>
            <a:chOff x="1370880" y="2486160"/>
            <a:chExt cx="5325840" cy="1640520"/>
          </a:xfrm>
        </p:grpSpPr>
        <p:sp>
          <p:nvSpPr>
            <p:cNvPr id="231" name="Text Box 55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6"/>
            <p:cNvSpPr/>
            <p:nvPr/>
          </p:nvSpPr>
          <p:spPr>
            <a:xfrm>
              <a:off x="1370880" y="2867040"/>
              <a:ext cx="53258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British Imperialism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in India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57"/>
          <p:cNvSpPr/>
          <p:nvPr/>
        </p:nvSpPr>
        <p:spPr>
          <a:xfrm>
            <a:off x="1370160" y="412416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Mughal Empire declined, Britain seizes Indian territory and soon it controls almost the whole sub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8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65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7"/>
          <p:cNvSpPr/>
          <p:nvPr/>
        </p:nvSpPr>
        <p:spPr>
          <a:xfrm>
            <a:off x="2274480" y="941400"/>
            <a:ext cx="5147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British Imperialism in Ind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8"/>
          <p:cNvSpPr/>
          <p:nvPr/>
        </p:nvSpPr>
        <p:spPr>
          <a:xfrm>
            <a:off x="1773360" y="2403360"/>
            <a:ext cx="57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t India Company Do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East India Company rules India until 185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 has its own army led by British offi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my is staffed by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epo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Indian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76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40" name="Text Box 77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8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9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Oval 86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0"/>
          <p:cNvSpPr/>
          <p:nvPr/>
        </p:nvSpPr>
        <p:spPr>
          <a:xfrm>
            <a:off x="1771560" y="182736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ritish Expand Control over In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3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4"/>
          <p:cNvSpPr/>
          <p:nvPr/>
        </p:nvSpPr>
        <p:spPr>
          <a:xfrm>
            <a:off x="1773360" y="3633840"/>
            <a:ext cx="573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wel in the Crow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 is Brita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most valuable colony, or </a:t>
            </a:r>
            <a:r>
              <a:rPr b="1" lang="ja-JP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jewel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he crown</a:t>
            </a:r>
            <a:r>
              <a:rPr b="1" lang="ja-JP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ced to produce raw materials for Brit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forced to buy British go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773360" y="2174760"/>
            <a:ext cx="54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Transport Trade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lroads move cash crops and goods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in specific crops is tied to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1773360" y="3367080"/>
            <a:ext cx="573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of Colon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hold much of political and economic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sh crops result in loss of self-sufficiency, f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 life disrupted by missionaries and rac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modernize Indi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economy, improve 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782360" y="1690560"/>
            <a:ext cx="422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ritish Expand Control over Ind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4" name="Text Box 1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9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773360" y="159876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Sepoy Muti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773360" y="2174760"/>
            <a:ext cx="544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s R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poys refuse to use cartridges of new rifl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us r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Sepoys are jailed; others star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ep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Mut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gainst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Indians, especially Sikhs, remain loyal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1773360" y="4167360"/>
            <a:ext cx="573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urn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put down rebellion, take direct comman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Ra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term for British rule over India, lasts from 175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19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prising increases distrust between Britis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7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4" name="Text Box 28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9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0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771920" y="159876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ationalism Surfaces in In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773360" y="2174760"/>
            <a:ext cx="544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ll for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1800s, Ram Mohun Roy leads mod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Indians adopt western ways and cal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s resent being second-class citizens in 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1773360" y="4218120"/>
            <a:ext cx="58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ist Group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 National Congress and Muslim Leagu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ists angered by partition of Ben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 forces Britain to divide it differe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5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4" name="Text Box 16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7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8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5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8"/>
          <p:cNvGrpSpPr/>
          <p:nvPr/>
        </p:nvGrpSpPr>
        <p:grpSpPr>
          <a:xfrm>
            <a:off x="1369800" y="2486160"/>
            <a:ext cx="4470840" cy="1640520"/>
            <a:chOff x="1369800" y="2486160"/>
            <a:chExt cx="4470840" cy="1640520"/>
          </a:xfrm>
        </p:grpSpPr>
        <p:sp>
          <p:nvSpPr>
            <p:cNvPr id="279" name="Text Box 9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0"/>
            <p:cNvSpPr/>
            <p:nvPr/>
          </p:nvSpPr>
          <p:spPr>
            <a:xfrm>
              <a:off x="1369800" y="2867040"/>
              <a:ext cx="4470840" cy="12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Imperialism in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Southeast Asia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11"/>
          <p:cNvSpPr/>
          <p:nvPr/>
        </p:nvSpPr>
        <p:spPr>
          <a:xfrm>
            <a:off x="1370160" y="411012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for Asian products drive Western imperialists to seek possession of Southeast Asian 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2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772280" y="1827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271600" y="941400"/>
            <a:ext cx="57006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Imperialism in Southeast As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773360" y="2403360"/>
            <a:ext cx="5788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Race to Claim Pacific 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nds of Southeast Asia that border Pacific Oc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Pacific 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tch, British, French, Germans claim par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cific 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trading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nd perfect for plantation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2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772640" y="182736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uropean Powers Invade the Pacific R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773360" y="4457880"/>
            <a:ext cx="57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tch Exp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tch colonies, called Dutch East Indies,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one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 Indonesia, establish rigid social class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5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292" name="Text Box 16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7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8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21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773360" y="217476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Take the Malayan Peni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ain seizes Singapore as a port and tr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so gets colonies in Malaysia, Bu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inese immigration to Malaysia cre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774800" y="3946680"/>
            <a:ext cx="54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nch Control Indo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nch come to control Vietnam, Laos, Cambo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ly control French Indo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 rice, angering Vietnam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8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02" name="Text Box 9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0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2"/>
          <p:cNvSpPr/>
          <p:nvPr/>
        </p:nvSpPr>
        <p:spPr>
          <a:xfrm>
            <a:off x="1782360" y="1690560"/>
            <a:ext cx="49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uropean Powers Invade the Pacific R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773360" y="217476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ial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ization mainly helps Europea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, health, sanitation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llions migrate to Southeast Asia to work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nes, pla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nialism leads to racial and religious clas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12" name="Text Box 15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18"/>
          <p:cNvSpPr/>
          <p:nvPr/>
        </p:nvSpPr>
        <p:spPr>
          <a:xfrm>
            <a:off x="1782360" y="1690560"/>
            <a:ext cx="49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uropean Powers Invade the Pacific R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774080" y="159876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am Remains Indepe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773360" y="2174760"/>
            <a:ext cx="544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ization in S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am remains independent, neutral zone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nch,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King Mong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odernizes count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rts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orms leg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organizes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s transportation and tele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s sla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6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22" name="Text Box 17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8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9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5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9"/>
          <p:cNvGrpSpPr/>
          <p:nvPr/>
        </p:nvGrpSpPr>
        <p:grpSpPr>
          <a:xfrm>
            <a:off x="1369800" y="2486160"/>
            <a:ext cx="6788880" cy="1057680"/>
            <a:chOff x="1369800" y="2486160"/>
            <a:chExt cx="6788880" cy="1057680"/>
          </a:xfrm>
        </p:grpSpPr>
        <p:sp>
          <p:nvSpPr>
            <p:cNvPr id="63" name="Text Box 30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1"/>
            <p:cNvSpPr/>
            <p:nvPr/>
          </p:nvSpPr>
          <p:spPr>
            <a:xfrm>
              <a:off x="1369800" y="2867040"/>
              <a:ext cx="67888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The Scramble for Africa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32"/>
          <p:cNvSpPr/>
          <p:nvPr/>
        </p:nvSpPr>
        <p:spPr>
          <a:xfrm>
            <a:off x="1373040" y="3532320"/>
            <a:ext cx="76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the claims of African ethnic groups, kingdo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ity-states, Europeans establish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3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769400" y="1598760"/>
            <a:ext cx="56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U.S. Imperialism in the Pacific 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773360" y="2174760"/>
            <a:ext cx="544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ilippines Change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gains Philippines after Spanish-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Emilio Aguinal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eads Filipino nationali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gainst U.S.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defeats three-year nationalist revolt (19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promises to prepare Filipinos for self-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cash crops leads to food short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8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31" name="Text Box 9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0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1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4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1773360" y="2174760"/>
            <a:ext cx="544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waii Becomes a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s establish sugar-cane plantation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wa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mid-1800s, sugar accounts for 75 perce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wai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w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business leaders wan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nnex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ad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ritory to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Queen Liliuokal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ries to restore Hawai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 businessmen have her removed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annexes Republic of Hawaii  (189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6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8"/>
          <p:cNvGrpSpPr/>
          <p:nvPr/>
        </p:nvGrpSpPr>
        <p:grpSpPr>
          <a:xfrm>
            <a:off x="1704960" y="793800"/>
            <a:ext cx="658800" cy="511920"/>
            <a:chOff x="1704960" y="793800"/>
            <a:chExt cx="658800" cy="511920"/>
          </a:xfrm>
        </p:grpSpPr>
        <p:sp>
          <p:nvSpPr>
            <p:cNvPr id="340" name="Text Box 9"/>
            <p:cNvSpPr/>
            <p:nvPr/>
          </p:nvSpPr>
          <p:spPr>
            <a:xfrm>
              <a:off x="170496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0"/>
            <p:cNvSpPr/>
            <p:nvPr/>
          </p:nvSpPr>
          <p:spPr>
            <a:xfrm>
              <a:off x="1877760" y="9954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1"/>
            <p:cNvSpPr/>
            <p:nvPr/>
          </p:nvSpPr>
          <p:spPr>
            <a:xfrm>
              <a:off x="187776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12"/>
          <p:cNvSpPr/>
          <p:nvPr/>
        </p:nvSpPr>
        <p:spPr>
          <a:xfrm>
            <a:off x="1784160" y="1690560"/>
            <a:ext cx="45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U.S. Imperialism in the Pacific Is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6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2" descr="WH_printscreen_27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7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1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7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9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3305160" y="1274760"/>
            <a:ext cx="54579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63">
            <a:hlinkClick r:id="" action="ppaction://hlinkshowjump?jump=firstslide"/>
          </p:cNvPr>
          <p:cNvSpPr/>
          <p:nvPr/>
        </p:nvSpPr>
        <p:spPr>
          <a:xfrm>
            <a:off x="746928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4" descr="CH1a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54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8"/>
          <p:cNvSpPr/>
          <p:nvPr/>
        </p:nvSpPr>
        <p:spPr>
          <a:xfrm>
            <a:off x="1774080" y="182736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frica Before European Do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9"/>
          <p:cNvSpPr/>
          <p:nvPr/>
        </p:nvSpPr>
        <p:spPr>
          <a:xfrm>
            <a:off x="2269800" y="941400"/>
            <a:ext cx="45806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The Scramble for Afr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0"/>
          <p:cNvSpPr/>
          <p:nvPr/>
        </p:nvSpPr>
        <p:spPr>
          <a:xfrm>
            <a:off x="1773360" y="240336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s Discourage 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mies, rivers, disease discourage 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3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2" name="Text Box 164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65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6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Line 167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8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6"/>
          <p:cNvSpPr/>
          <p:nvPr/>
        </p:nvSpPr>
        <p:spPr>
          <a:xfrm>
            <a:off x="1773360" y="3065400"/>
            <a:ext cx="580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s Compete for Overseas Emp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Imperia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eizure of a country or territory by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ssionaries, explorers, humanitarians reach int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2"/>
          <p:cNvSpPr/>
          <p:nvPr/>
        </p:nvSpPr>
        <p:spPr>
          <a:xfrm>
            <a:off x="1773360" y="4532400"/>
            <a:ext cx="582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go Sparks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ry Stanley helps King Leopold II of Belg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 land in Co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opold brutally exploits Africans; millions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lgian government takes colony away from Leop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Europe begins to claim parts of Af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772640" y="159876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ces Driving Imperial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3" name="Text Box 7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0"/>
          <p:cNvSpPr/>
          <p:nvPr/>
        </p:nvSpPr>
        <p:spPr>
          <a:xfrm>
            <a:off x="1773360" y="2174760"/>
            <a:ext cx="573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lief in European Supe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ce for colonies grows out of national p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Rac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belief that one race is better than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ocial Darwi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survival of the fittest appli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1773360" y="3665520"/>
            <a:ext cx="573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s Promoting Imperialism i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ical inventions like steam engine, Max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n help con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fection of quinine protects Europeans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frica, Africans are divided by languag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4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5"/>
          <p:cNvSpPr/>
          <p:nvPr/>
        </p:nvSpPr>
        <p:spPr>
          <a:xfrm>
            <a:off x="1772280" y="159876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Division of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6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8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3" name="Text Box 89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0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91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92"/>
          <p:cNvSpPr/>
          <p:nvPr/>
        </p:nvSpPr>
        <p:spPr>
          <a:xfrm>
            <a:off x="1773360" y="2174760"/>
            <a:ext cx="57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Lure of W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y of gold and diamonds increases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col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6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7"/>
          <p:cNvSpPr/>
          <p:nvPr/>
        </p:nvSpPr>
        <p:spPr>
          <a:xfrm>
            <a:off x="1773360" y="3098880"/>
            <a:ext cx="573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lin Conference Divides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Berlin Con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14 nations agree on rul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(1884–8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ntries must claim land and prove abil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1914, only Liberia and Ethiopia are fre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contro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4"/>
          <p:cNvSpPr/>
          <p:nvPr/>
        </p:nvSpPr>
        <p:spPr>
          <a:xfrm>
            <a:off x="1773360" y="5143680"/>
            <a:ext cx="57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 for Raw Materials Shapes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w materials are greatest source of wealth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 develop cash-crop plan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73360" y="159876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ree Groups Clash over South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04" name="Text Box 7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8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0"/>
          <p:cNvSpPr/>
          <p:nvPr/>
        </p:nvSpPr>
        <p:spPr>
          <a:xfrm>
            <a:off x="1773360" y="2174760"/>
            <a:ext cx="6075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ulus Fight the Bri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ha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Zulu chief—creates centralized state a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8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itish defeat Zulus and gain control of Zulu nation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8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773360" y="367668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ers and British Settle in the 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Bo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 Dutch farmers, take Africa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large f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ers clash with British over land, sla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ve north to escape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1773360" y="5200560"/>
            <a:ext cx="5736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er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Boer W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British, Boers begins in 1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win; Boer republics united in Union of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 (19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3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7"/>
          <p:cNvSpPr/>
          <p:nvPr/>
        </p:nvSpPr>
        <p:spPr>
          <a:xfrm>
            <a:off x="1370160" y="3954600"/>
            <a:ext cx="67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s embark on a new phase of empire building that affects both Africa and the rest of 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1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84"/>
          <p:cNvGrpSpPr/>
          <p:nvPr/>
        </p:nvGrpSpPr>
        <p:grpSpPr>
          <a:xfrm>
            <a:off x="1370160" y="2397240"/>
            <a:ext cx="6800760" cy="1519920"/>
            <a:chOff x="1370160" y="2397240"/>
            <a:chExt cx="6800760" cy="1519920"/>
          </a:xfrm>
        </p:grpSpPr>
        <p:sp>
          <p:nvSpPr>
            <p:cNvPr id="115" name="Text Box 69"/>
            <p:cNvSpPr/>
            <p:nvPr/>
          </p:nvSpPr>
          <p:spPr>
            <a:xfrm>
              <a:off x="1370160" y="2397240"/>
              <a:ext cx="43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0"/>
            <p:cNvSpPr/>
            <p:nvPr/>
          </p:nvSpPr>
          <p:spPr>
            <a:xfrm>
              <a:off x="1370160" y="2787480"/>
              <a:ext cx="6800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Imperialism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2"/>
            <p:cNvSpPr/>
            <p:nvPr/>
          </p:nvSpPr>
          <p:spPr>
            <a:xfrm>
              <a:off x="1400040" y="345744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b6e19"/>
                  </a:solidFill>
                  <a:latin typeface="Arial"/>
                  <a:ea typeface="Times New Roman"/>
                </a:rPr>
                <a:t>CASE STUDY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ig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7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1771200" y="182736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 New Period of Imperial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0"/>
          <p:cNvSpPr/>
          <p:nvPr/>
        </p:nvSpPr>
        <p:spPr>
          <a:xfrm>
            <a:off x="2270160" y="941400"/>
            <a:ext cx="23997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Imperialis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1"/>
          <p:cNvSpPr/>
          <p:nvPr/>
        </p:nvSpPr>
        <p:spPr>
          <a:xfrm>
            <a:off x="1773360" y="2403360"/>
            <a:ext cx="58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ing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s want to control all aspects of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on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 political, social lives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ape economies to benefit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people to adopt European custo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7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9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24" name="Text Box 80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1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2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Oval 85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6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7"/>
          <p:cNvSpPr/>
          <p:nvPr/>
        </p:nvSpPr>
        <p:spPr>
          <a:xfrm>
            <a:off x="2267640" y="1344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6e19"/>
                </a:solidFill>
                <a:latin typeface="Arial"/>
              </a:rPr>
              <a:t>CASE STUD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PA Department of Education Classrooms for the Future</cp:lastModifiedBy>
  <cp:lastPrinted>2003-11-12T20:33:16Z</cp:lastPrinted>
  <dcterms:modified xsi:type="dcterms:W3CDTF">2012-03-07T14:27:22Z</dcterms:modified>
  <cp:revision>866</cp:revision>
  <dc:subject/>
  <dc:title>No Slide Title</dc:title>
</cp:coreProperties>
</file>